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70D3-DDE7-48F4-8A73-BAC709BEA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75E6-9FC9-44F3-8890-E4EDDF23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FAD2-A55B-4F00-80FD-C17247A80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E3CD-C40A-4980-85FD-BB5DFADF1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76E6-50CA-4467-9AE7-C3BE1035E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ABA0-289A-4E44-8368-AAB5BD3F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D2E0-AA82-46A1-9CC5-B31C825B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88C6-7B82-42CE-B824-9DDCF64D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B234-EF76-46D8-9E45-8339D059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DE9F-5127-4771-8631-FB74DFF5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7EAA-6891-41DA-8649-A88548DF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76EF-8527-43B6-8808-9D2055CF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86C2-9883-41D4-AAED-C17674A3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F2A5-9179-4E46-B51B-9AA0EFFB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40A7-E4A4-42E2-B91E-DFA62966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BEAD-63CE-405B-B259-86A413E11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A844-7FC4-440E-85B3-9CEFE3105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E1BB3-0BD5-44FF-B60F-65725DB15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FD913-7704-4AEB-B9AE-8392C4E7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1C9F4-8C55-4AE9-948A-2B6E706C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4EF50-3331-4375-9F5B-3D0CB485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6ED6B-92C4-462F-8572-AF23FED0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8B0C-5DDA-47FA-9EF7-2F223C47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4B8A4-937A-4E3F-BCDD-8231AAF9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5DDBA-8D18-4548-8555-F5385B4A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5E622-9E4A-4ACF-96B0-9037AD26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9F390-40EC-442F-B2DA-B575F101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CFD0E-8D68-49FE-A967-E796B6F3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855D7-FB5B-4F96-9418-835B3DED6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46715-339B-4F32-BA01-6C2E23C0C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17094-3876-4CD8-8F7C-338127EFA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1BAE1-70ED-4625-9B1C-B3EB29E7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3AED6-0BF1-496B-A5DF-14DC70AD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C269-C718-4DCF-83E2-A70C5B7E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7C283-A52D-4413-9DB0-5A61D226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A6EE7-3392-4B27-8695-B3640341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3AC5D-42C4-440D-9A8A-18538F78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FDAA7-13C8-4C5F-90B5-0480BACD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BD7AB-5BE2-4306-A5CF-1F8355BC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E30DA-7FAD-4504-8D6A-C5702628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0DB08-0707-4964-834D-DC0218A6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FAA66-3DD4-4409-96A5-2FE330626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C9A95-3686-4ED4-BF0A-8B5142B06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FD93F-8538-4304-9356-C6C622BBF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CECA-C94E-4A50-9059-4D84876E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C8D28-0856-4D43-945A-C787A2A3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93059-9200-433D-A422-14764AB1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6FABB-5330-4749-979D-B26CC7E2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0DB80-476C-4EED-B341-B34FB7B0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BA82C-90A8-4DF0-BFB9-EFFFCF82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75E2E-985D-4EAD-902D-3EB476C4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54FEE-967A-4FDE-BE51-D07BB52E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EE623-4113-4132-9B67-99B80E17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AEA70-B649-4D30-B618-37894536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BAB59-493E-4648-960A-01992284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662E-9662-40D4-9474-DC8F6339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4E8F7-352B-4504-9248-31DD0721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C755D-FD2E-48C6-80D1-E65024B85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96661-365E-4CF0-9140-C881F6A2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1C43C-6619-4A36-A958-33B3322E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894EC-91D3-4A58-8DA4-B46A2F04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3452E-6FC1-4C58-BCA5-9BB0EBF0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D312D-E7DC-4E97-840D-0B1B5AD9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9AC06-0416-40DF-B2B1-CCA7E836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BD9A5-7DFF-4FEE-B800-2D437EB4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A1FC0-D40B-4A49-BD20-9034E3FD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8B35-6099-4160-9CF1-9D43397D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8E4E4-57DE-4715-9729-40335559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CCE19-9BB8-4C36-9690-C118374D4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CE07A-D74C-4295-A9C6-E6E5B6BF2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55013-3968-4F04-91B2-21EAE6A42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89193-1193-41A5-AFE2-410F199B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B1876-D767-4818-8D9A-4ED90374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48F69-E11F-4921-A708-C29BEF10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11455-0F69-41CC-AB9B-32FD1E2B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626F0-528D-4AC9-B4B2-13B94635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8A3DC-FDC9-4EFB-A68B-E4E76581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753C-64E9-4366-AE3E-2D12A697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DBDC5-1F7D-429F-9FA4-5F351CCF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BA88E-723C-4860-A177-3828E803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74887-E245-4BFC-B057-45DF44FB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72AA8-A89C-4ED7-9D12-EEED8E032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E559C-5408-43AC-858F-5A636B027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F30EA-331B-432A-933B-DBB95CA70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CE361-9B8A-4E63-8672-5223FFE1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A5D60-3781-4756-A4D2-2F16D336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D78CE-AE88-4E95-B4C3-0F1AF574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DEC4F-CEAA-4205-BDFE-ED5F28DF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05E1-0BAF-4E95-9356-19D1CE4D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D66C4-C5F5-4AEE-B808-FD6D12B6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D74A8-2030-4478-A724-D9FA37E8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3D967-802E-4296-8D35-11FE4604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9DA27-3DB6-427F-9E77-A8E0FE3A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B0564-2607-440F-B3D4-A84F0470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A952B-7311-4984-8CF8-CD08B3AC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26905-2E6E-4E72-A780-093BDBB2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a liv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a liv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iângulo retângu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ângulo retângulo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Conector reto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102F-9D3D-4AB1-9B93-F27F5104A71E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ângulo retângulo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o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a livre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orma livre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orma livre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orma livre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Conector reto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2FC4-9410-47BC-9495-44D6FE091253}" type="slidenum">
              <a:rPr b="0" lang="pt-B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a liv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rma liv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iângulo retângu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iângulo retângu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Conector reto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Divisa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ivisa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5010-BA95-429F-A01C-B88162A31789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a liv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rma liv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Triângulo retângu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iângulo retângu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Conector reto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56CF-AE13-4527-8CF3-1AA855166993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31D9-F076-4935-9D55-3D8F0B7F2054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rma liv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rma liv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riângulo retângu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iângulo retângu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Conector reto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F129-E0A9-40AA-B36D-E566E582D439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8007-2F97-4C54-92AE-83939D417FA9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a livre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rma livre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Triângulo retângulo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iângulo retângulo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Conector reto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Divisa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Divisa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6976-F105-4704-B529-B16F67C5AFB7}" type="slidenum">
              <a:rPr b="0" lang="pt-B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d:\Users\PARTICULAR\Desktop\o-estudo-diario-segredo-bom-desempenho-escolar-13177391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464646"/>
                </a:solidFill>
                <a:latin typeface="Lucida Sans Unicode"/>
              </a:rPr>
              <a:t>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Retângulo 4"/>
          <p:cNvSpPr/>
          <p:nvPr/>
        </p:nvSpPr>
        <p:spPr>
          <a:xfrm>
            <a:off x="1042920" y="549360"/>
            <a:ext cx="7489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0000"/>
                </a:solidFill>
                <a:latin typeface="Arial"/>
              </a:rPr>
              <a:t>E.E JOSÉ ALVES QUI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0000"/>
                </a:solidFill>
                <a:latin typeface="Arial"/>
              </a:rPr>
              <a:t>SÍNTESE DO TEMA 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0000"/>
                </a:solidFill>
                <a:latin typeface="Arial"/>
              </a:rPr>
              <a:t>APRENDER É ESTUD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0000"/>
                </a:solidFill>
                <a:latin typeface="Arial"/>
              </a:rPr>
              <a:t>E.E.JAQ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0000"/>
                </a:solidFill>
                <a:latin typeface="Arial"/>
              </a:rPr>
              <a:t>PROGETEC: GEOVANI VIL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Lucida Sans Unicode"/>
              </a:rPr>
              <a:t>APRENDER É ESTUDA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Lucida Sans Unicode"/>
              </a:rPr>
              <a:t>APRENDER NÃO É UMA XEROX..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Lucida Sans Unicode"/>
              </a:rPr>
              <a:t>MAS SIM....SUJEITO..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Lucida Sans Unicode"/>
              </a:rPr>
              <a:t>PERCEPÇÃO DE SEU REDOR....(MENTE HUMANA)...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Lucida Sans Unicode"/>
              </a:rPr>
              <a:t>NEM SEMPRE ESTUDA É TER AUL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Espaço Reservado para Conteúdo 3" descr="imag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UMA HISTÓRIA CONTADA POR MAIS DE UMA PESSOA , AO FINALIZARMOS ESSA HISTÓRIA TEREMOS FINAIS  DIFERENT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CONSTRUÇÃO CRESCENTE  DA  AUTONOMIA HUMA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APRENDIZAGEM ADEQUA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AUTORIA – ARGUMENT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PESQUISA- FUNDAMENT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ELABORAÇÃO PRÓPRIA – HÁBIT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LEITURA SISTEMÁTICA - PROFISSION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ítulo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Espaço Reservado para Conteúdo 3" descr="20120721-ciclo_aprendizage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0T18:56:53Z</dcterms:created>
  <dc:creator>PARTICULAR</dc:creator>
  <dc:description/>
  <dc:language>en-US</dc:language>
  <cp:lastModifiedBy>PARTICULAR</cp:lastModifiedBy>
  <dcterms:modified xsi:type="dcterms:W3CDTF">2015-03-26T20:17:39Z</dcterms:modified>
  <cp:revision>6</cp:revision>
  <dc:subject/>
  <dc:title>Slide 1</dc:title>
</cp:coreProperties>
</file>